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894-9AD8-44BE-B1A5-39A59034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C7F-7464-42A3-A45C-374CD9B6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E32-DBED-48D2-B9AD-E979BE2A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DE95-B09B-4D00-B841-E110DB4C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52F-70F6-482B-AF7C-F1C6CBD4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677-9C99-48E1-8DB0-4C893E9E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5CD-3272-4165-866E-26D1AD88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663-408D-4172-A82D-EE4AE7C8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399-31F1-4397-B5F4-E0E08868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05B-E5B6-4FA9-A92E-C32B3BA4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DD5-39D5-481E-828B-3EC2C54A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056-3B76-4081-B2FD-420B999A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8607-0AA9-401D-A6D0-B65C2A33F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the Cherokee and the Creek meet their basic needs? (food, water, shel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bartering/trading help European colonists get the goods and services they wanted/need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bartering/trading help the Creek and Cherokee get the goods and services they wanted/need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the Creek and Cherokee protect their lan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did Georgia’s first people have to do so that everyone would have enough of their basic nee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kinds of choices did people have to make in order to surv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the Cherokee and Creek adapt to changes in their enviro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life for the Creek and Cherokee change when the settlers arrived in what is now Georgia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were the lives of the Creek and Cherokee in Oglethorpe’s time different from our lives toda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 what ways are the lives of the Creek and Cherokee of Oglethorpe’s time the same as the lives of modern Georgian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is your life the same as Sequoyah’s lif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o was Sequoyah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kinds of things are different in your life than what Sequoyah might have experienc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o was James Oglethorpe?  Tomochichi? Mary Musgrove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Oglethorpe demonstrate honesty and compassion with colonists and the Creek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cooperation between colonists and the Creek help Savannah become a successful settlement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Georgia become such a successful colo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do honesty, compassion, trustworthiness, and dependability mean?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are honesty, compassion, trustworthiness, and dependability important character traits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can you show these positive traits (honesty, compassion, trustworthiness, dependability) in your li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James Oglethorpe, Mary Musgrove, and Tomochichi influence Georgia’s past and present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was England’s climate different from Georgia’s? How did these differences affect the colonist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Sequoyah influence the Cherokee way of li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did James Oglethorpe move to Georg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changes did Oglethorpe and the colonists have to make in order to adapt to Georgia’s land and climate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were the cultures of the colonists different from Creek culture? How were they alike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was it a good idea for Oglethorpe to create a settlement at Yamacraw Bluff (which is now the city of Savannah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Georgia’s colonists get the things they wanted and needed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In what ways did the barter system help both Georgia’s colonists and the Creek and Cherokee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skills did Tomochichi, James Oglethorpe, and Mary Musgrove have that helped make bartering and trading possible between the colonists and the Creek and Cheroke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skills did Tomochichi, James Oglethorpe, and Mary Musgrove have that helped make bartering and trading possible between the colonists and the Creek and Cheroke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Oglethorpe and Tomochichi’s friendship help make Georgia a successful colon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is life in Georgia today different than it was during the time Oglethorpe was aliv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ere in Georgia did the Cherokee liv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James Oglethorpe, Mary Musgrove, and Tomochichi’s cooperation have an effect on our present day state of Georgia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is liberty? What does liberty mean to you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is it important for all American citizens to have the same rights and freedoms?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is sportsmanship?    What is civility?  How do you show sportsmanship and civility in your own li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Jackie Robinson’s decision to demonstrate sportsmanship and civility affect today’s American spor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Dr. King’s work for civil rights affect the way we live today?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are some things people like Dr. King did to help all Americans have the same rights and freedoms?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y was it important for people like Dr. King to fight for civil righ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is liberty? What does liberty mean to you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ere in Georgia did the Creek 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the Cherokee and Creek depend on nature to meet their basic need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Sequoyah’s accomplishments affect the entire Cherokee Nation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How did the Creek and Cherokee get resources that were not available in the region(s) where they live(d)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kbar"/>
              </a:rPr>
              <a:t>What are ways in which goods and services are given out? (ex. force, sharing, first come-first serv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0:23:51Z</dcterms:created>
  <dc:creator>Abby Owens</dc:creator>
  <dc:description/>
  <dc:language>en-US</dc:language>
  <cp:lastModifiedBy>Abby Owens</cp:lastModifiedBy>
  <dcterms:modified xsi:type="dcterms:W3CDTF">2010-05-28T00:40:41Z</dcterms:modified>
  <cp:revision>40</cp:revision>
  <dc:subject/>
  <dc:title>PowerPoint Presentation</dc:title>
</cp:coreProperties>
</file>